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E98-609A-47A4-9503-905B3AE8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C77-B647-40F9-B52B-E83C63F0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947-F737-4805-A5D6-89EF1654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498-127D-4A47-A2A9-123E86B7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BDC6-13ED-4DDE-B70F-2DF3D2CA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C313-6DBC-4BF2-8A89-B6944E04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D3D-642D-4151-9FEB-01341296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1B0-7B50-4B3D-A3AD-01520071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79A6-FFCA-420B-83F0-F44F877D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062-421E-4507-AF8F-3CD02378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588-682F-46BF-837E-E9DC4B67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D14-FEAA-4067-B8D2-52D4B8C4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B515C-3A4A-4528-B6C5-50B21B3EEE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7C9E7-7B91-46EE-9BC6-B9CFE6257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symbol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symbol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valence electrons does             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symbol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symbol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valence electrons does             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    stand fo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    stand fo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valence electrons does             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    stand fo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    stand fo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valence electrons does             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3:37:53Z</dcterms:created>
  <dc:creator>Caroline Roth</dc:creator>
  <dc:description/>
  <dc:language>en-US</dc:language>
  <cp:lastModifiedBy>Caroline Roth</cp:lastModifiedBy>
  <cp:lastPrinted>2011-03-22T03:53:23Z</cp:lastPrinted>
  <dcterms:modified xsi:type="dcterms:W3CDTF">2011-03-22T04:08:11Z</dcterms:modified>
  <cp:revision>6</cp:revision>
  <dc:subject/>
  <dc:title>Slide 1</dc:title>
</cp:coreProperties>
</file>